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D9C1-24C5-47CC-A681-72C8B9BE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F747-2A97-4A1B-ADA6-90A0880E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8B63-66E4-4DCF-955F-987B1105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6A7B-33F8-4C26-8BD4-7BC4DBDC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C58D-ACA8-4E62-8EA9-2755C7F5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F433-B5A8-49F6-9F1A-A0077BFB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6C92-A027-42A7-A030-176050E5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3AB6-11E8-4E67-991F-225ABCBB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6F45-B4CF-4AE8-9CBA-85196536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64B9-4369-4B2D-BB8A-BF5CFF98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CD9B-0DDA-4AC8-8B24-8ED898C2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599D-3675-4D94-8B86-D645A956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5707-9F12-49E6-B750-26D88761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5067-C702-4C10-9B66-3A3BE780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77F9-1753-450C-8FB1-415DCA1F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2B3E-065A-47DA-B367-A3BEED2C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5C2B-604A-4435-AABE-7A589A23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9531-BCF7-482D-8C08-026B4547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CE77-9B2C-4A45-8F1D-ABAA9767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58C2-0B04-4C6C-A620-91E31971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8AC5-0EE9-4BE0-9EB9-5950DDAE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C944-752B-4365-9371-76BB9F0F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4980-D5A7-4033-B175-C291E26B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507E-1621-4FC0-A1DD-3C96F532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72B1-DC31-451F-ACE1-1B535FD7423B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7154-DB10-4D8F-AB9C-804DF2EB8D0B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8040"/>
            <a:ext cx="63309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Гражданская оборона</a:t>
            </a:r>
            <a:endParaRPr b="0" lang="en-US" sz="6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83" name="Picture 5" descr="m_ch_s"/>
          <p:cNvPicPr/>
          <p:nvPr/>
        </p:nvPicPr>
        <p:blipFill>
          <a:blip r:embed="rId1"/>
          <a:stretch/>
        </p:blipFill>
        <p:spPr>
          <a:xfrm>
            <a:off x="7236000" y="208080"/>
            <a:ext cx="1199880" cy="172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https://birulevo-zapadnoe.mos.ru/upload/medialibrary/5d0/grazhdanskaya-oborona.iz-istorii.jpg"/>
          <p:cNvPicPr/>
          <p:nvPr/>
        </p:nvPicPr>
        <p:blipFill>
          <a:blip r:embed="rId2"/>
          <a:stretch/>
        </p:blipFill>
        <p:spPr>
          <a:xfrm>
            <a:off x="826920" y="2205000"/>
            <a:ext cx="7481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6840" y="1052640"/>
            <a:ext cx="84358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означает звучание сирен, предупреждающих о ЧС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«Воздушная тревога!»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«Внимание всем!»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Начало эвакуации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6. Куда необходимо следовать при объявлении эвакуации? 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) в ЖЭК; 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) в школу; 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) на сборно-эвакуационный пункт.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 Поражающими факторами ядерного взрыва являются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избыточное давление в эпицентре ядерного взрыва; облако, зараженное отравляющими веществами и движущееся по направлению ветра; изменение состава атмосферного воздуха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ударная волна, световое излучение, проникающая радиация, радиоактивное заражение и электромагнитный импульс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резкое понижение температуры окружающей среды, понижение концентрации кислорода в воздухе, самовозгорание веществ и материалов в зоне взрыва, резкое увеличение силы тока в электроприборах и электрооборудовании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50560" y="115560"/>
            <a:ext cx="889308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 К действиям населения при оповещении об аварии на радиационно-опасном объекте относятся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ключите радиоприемник, телевизор, прослушайте сообщение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ходясь на улице, немедленно защитите органы дыхания и поспешите в укрытие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Для защиты органов дыхания используйте респиратор, ватно-марлевую повязку (ВМП) или подручные изделия из ткани, смоченные водой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) Закройте окна и двери, загерметизируйте помещение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) Проведите йодную профилактику.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) Защитите продукты питания; сделайте запас воды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) Ждите информацию органов ГОЧС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) Все вышеперечисленные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З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94920" y="259920"/>
            <a:ext cx="8497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9. При движении по зараженной радиоактивными веществами местности необходимо: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находиться в средствах индивидуальной защиты органов дыхания и кожи;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без надобности не садиться и не прикасаться к местным предметам;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избегать движения по высокой траве и кустарнику;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не принимать пищу, не пить, не курить;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) не поднимать пыль и не ставить вещи на землю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) Всё вышеперечисленное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353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Гражданская оборона – это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система мероприятий по прогнозированию, предотвращению и ликвидации чрезвычайных ситуаций в военное время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система обеспечения постоянной готовности органов государственного управления для быстрых и эффективных действий по организации первоочередного жизнеобеспечения населения при ведении военных действий на территории Российской Федерации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система мероприятий по подготовке к защите и по защите населения, материальных и культурных ценностей на территории Российской Федерации от опасностей, возникающих при ведении военных действий или вследствие этих действий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0. Частичная санитарная обработка включает в себя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снять верхнюю одежду, встать спиной к ветру и тщательно ее выбить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обмыть водой и обтереть ветошью обувь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снять противогаз, вымыть лицо, прополоскать рот и горло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обмыть водой открытые участки тела и лицевую часть противогаза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) снять всю одежду и отправить в стирку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) принять ванну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13372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000000"/>
                </a:solidFill>
                <a:latin typeface="Calibri"/>
              </a:rPr>
              <a:t>А; Б; В; Г</a:t>
            </a:r>
            <a:endParaRPr b="0" lang="en-US" sz="13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Первая помощь</a:t>
            </a:r>
            <a:endParaRPr b="0" lang="en-US" sz="7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16" name="Picture 2" descr="https://avatars.mds.yandex.net/get-zen_doc/53963/pub_5ab32893bcf1bcb6689dc57e_5ab32b6f9e29a29d46437756/scale_1200"/>
          <p:cNvPicPr/>
          <p:nvPr/>
        </p:nvPicPr>
        <p:blipFill>
          <a:blip r:embed="rId1"/>
          <a:stretch/>
        </p:blipFill>
        <p:spPr>
          <a:xfrm>
            <a:off x="1476360" y="1557360"/>
            <a:ext cx="643896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351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Вы обнаружили у пострадавшего из ноги пульсирующими струйками выделяется кровь алого цвета. Какое кровотечение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венозное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капиллярное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артериальное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 вы наложите жгут при кровотечении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Ниже раны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Выше раны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На саму рану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indefinite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1" dur="indefinite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" dur="indefinite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 какое время можно накладывать жгут при остановке кровотечения летом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на 1 час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на 1,5-2 часа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на 3 часа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280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. Как вы окажете помощь пострадавшему при переломе руки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наложите тугую повязку;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поможете пострадавшему добраться до больницы;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к поврежденной конечности закрепите шину (палку, дощечку), позвоните 03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. Сколько вдуваний в минуту вы будете делать пострадавшему при искусственном дыхании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5-10 вдуваний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2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3-4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6. Сколько надавливаний вы будете делать пострадавшему при непрямом массаже сердца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50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30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60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3" dur="indefinite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4" dur="indefinite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7. Какие средства защиты следует применять от поражения отравляющими веществами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защитный костюм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противогаз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марлевую повязку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жданская оборона - система мероприятий по подготовке к защите и по защите населения, материальных и культурных ценностей на территории Российской Федерации от опасностей, возникающих при военных конфликтах или вследствие этих конфликтов, а также при чрезвычайных ситуациях природного и техногенного характера (в ред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едерального закона от 29.06.2015 N 171-ФЗ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5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072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 Как правильно оказать помощь при кровотечении из носа:        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        сказать пострадавшему, чтобы он стоял,  запрокинув голову назад, и не шевелился;        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        усадить пострадавшего, наклонив его туловище перед, положить на спинку носа холод, плотно прижать крылья носа к перегородке на 5—10 минут, смочить  кусочки ваты раствором перекиси водорода и вести их в носовые ходы;  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        усадить пострадавшего, наклонив его туловище вперед, смочить кусочки ваты раствором перекиси водорода и ввести их в носовые ходы, измерить температуру и дать обезболивающее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5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000" y="764640"/>
            <a:ext cx="80852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9. При химическом ожоге кислотой необходимо прежде всего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        доставить пострадавшего в медицинское учреждение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        дать обезболивающе средство и промыть место ожога слабым раствором питьевой соды;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        удалить с человека одежду, пропитанную кислотой, и промыть кожу проточной водой;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5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9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99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95280" y="333000"/>
            <a:ext cx="82915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10. Укажите правильную последовательность при оказании ПМП при ожогах: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А) дать таблетку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Б) при горении одежды, накрыть пострадавшего плотной тканью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В) положить холод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Г) дать выпить теплый чай, слабый кофе или слегка подсоленную воду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Д) наложить стерильную повязку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Е) транспортировать в лечебное заведение.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 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Б; А; Д; Г; В; Е.</a:t>
            </a:r>
            <a:endParaRPr b="0" lang="en-US" sz="8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6407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Из приведенных задач выберите те, которые являются задачами в области ГО: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эвакуация населения, материальных и культурных ценностей в безопасные районы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эвакуация раненных с места военных действий в безопасные районы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борьба с пожарами, возникающими при ведении военных действий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 обеззараживание населения, техники, зданий и территорий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) строительство фортификационных сооружений в военное время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) восстановление функционирования необходимых коммунальных служб в военное время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) проведение мероприятий по организации медицинского обслуживания населения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) проведение мероприятий по светомаскировке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alibri"/>
              </a:rPr>
              <a:t>А; В; Г; Е; З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24000" y="115920"/>
            <a:ext cx="8496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Ведение ГО на территории РФ или отдельных ее местностях начинается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с началом объявления о мобилизации взрослого населения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с момента объявления или ведения Президентом Российской Федерации чрезвычайного положения на территории Российской Федерации или отдельных ее местностях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с момента объявления состояния войны, фактического начала военных действий или ведения Президентом Российской Федерации военного положения на территории Российской Федерации и в отдельных ее местностях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95280" y="115560"/>
            <a:ext cx="822960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. Руководителем гражданской обороны образовательного учреждения является: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) специально уполномоченный представитель органов местного самоуправления;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) руководитель общеобразовательного учреждения;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) один из заместителей руководителя общеобразовательного учреждения, прошедший специальную подготовку.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22:10Z</dcterms:created>
  <dc:creator>РиЮ</dc:creator>
  <dc:description/>
  <dc:language>en-US</dc:language>
  <cp:lastModifiedBy>Андрей</cp:lastModifiedBy>
  <dcterms:modified xsi:type="dcterms:W3CDTF">2020-03-15T14:13:14Z</dcterms:modified>
  <cp:revision>36</cp:revision>
  <dc:subject/>
  <dc:title>Слайд 1</dc:title>
</cp:coreProperties>
</file>