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A3B-58B8-4D5F-9DE6-E3C18085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7E6-722B-4BBB-A8F7-45BA38A6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191-760B-4DE0-B57E-D04D4490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436-BFBA-4DFE-ABD9-E6096626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FA22-51EE-47E3-80B9-50265A0A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D1DD-C602-4622-8B01-72793101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D991-AF26-41FA-9220-823FB618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2298-3A36-47A7-A030-01F12E9D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0536-4481-47DD-B009-E4565147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060A-D58C-446E-A673-0D3331CC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D256-F625-43B7-B6F7-F7A4DF5B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25C-AF35-472C-AE0E-E2AD8013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F0F4-7C95-4E25-960A-A9EAC4A4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38AC-8643-4ACD-92AC-51D91DAA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FE45-3A01-4B80-A6B0-BEB8E60A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C7BC-9678-4368-B6DC-C78ADC18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CDA0-F5BB-4EAF-84F1-E647B1E6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7ED-2C50-4775-97CA-AB63D71D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0B5-CC97-4007-935F-ED6D513C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1DD-9F20-4EBA-9254-32A46B23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08B-A795-456E-80F3-3ECD6F0E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30D-C5D5-44C8-AA3A-13D7535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8B1-3D68-4A28-9DCE-971167C0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1BF-CA59-46CC-8B4A-DC041F3F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81FA-F245-4F60-9DEB-0820A86C822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3A53-6DD3-430A-AF38-9D90247837B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8040"/>
            <a:ext cx="633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ражданская оборона</a:t>
            </a:r>
            <a:endParaRPr b="0" lang="en-US" sz="6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3" name="Picture 5" descr="m_ch_s"/>
          <p:cNvPicPr/>
          <p:nvPr/>
        </p:nvPicPr>
        <p:blipFill>
          <a:blip r:embed="rId1"/>
          <a:stretch/>
        </p:blipFill>
        <p:spPr>
          <a:xfrm>
            <a:off x="7236000" y="208080"/>
            <a:ext cx="119988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s://birulevo-zapadnoe.mos.ru/upload/medialibrary/5d0/grazhdanskaya-oborona.iz-istorii.jpg"/>
          <p:cNvPicPr/>
          <p:nvPr/>
        </p:nvPicPr>
        <p:blipFill>
          <a:blip r:embed="rId2"/>
          <a:stretch/>
        </p:blipFill>
        <p:spPr>
          <a:xfrm>
            <a:off x="826920" y="2205000"/>
            <a:ext cx="7481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1052640"/>
            <a:ext cx="84358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означает звучание сирен, предупреждающих о ЧС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«Воздушная тревога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«Внимание всем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чало эвакуаци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. Куда необходимо следовать при объявлении эвакуации?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в ЖЭК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 школу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на сборно-эвакуационный пункт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Поражающими факторами ядерного взрыва являю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избыточное давление в эпицентре ядерного взрыва; облако, зараженное отравляющими веществами и движущееся по направлению ветра; изменение состава атмосферного воздух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ударная волна, световое излучение, проникающая радиация, радиоактивное заражение и электромагнитный импульс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резкое понижение температуры окружающей среды, понижение концентрации кислорода в воздухе, самовозгорание веществ и материалов в зоне взрыва, резкое увеличение силы тока в электроприборах и электрооборудовани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115560"/>
            <a:ext cx="88930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 действиям населения при оповещении об аварии на радиационно-опасном объекте относя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ючите радиоприемник, телевизор, прослушайте сообщ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ясь на улице, немедленно защитите органы дыхания и поспешите в укрыт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Закройте окна и двери, загерметизируйте помещен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) Проведите йодную профилактику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) Защитите продукты питания; сделайте запас воды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) Ждите информацию органов ГОЧ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) Все вышеперечисленны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4920" y="259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9. При движении по зараженной радиоактивными веществами местности необходимо: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находиться в средствах индивидуальной защиты органов дыхания и кожи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без надобности не садиться и не прикасаться к местным предметам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избегать движения по высокой траве и кустарнику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е принимать пищу, не пить, не курить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) не поднимать пыль и не ставить вещи на землю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) Всё вышеперечисленное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353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Гражданская оборона – это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истема мероприятий по прогнозированию, предотвращению и ликвидации чрезвычайных ситуаций в военное врем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истема обеспечения постоянной готовности органов государственного управления для быстрых и эффективных действий по организации первоочередного жизнеобеспечения населения при ведении военных действий на территории Российской Федерации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едении военных действий или вследствие этих действи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. Частичная санитарная обработка включает в себя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нять верхнюю одежду, встать спиной к ветру и тщательно ее выби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бмыть водой и обтереть ветошью обу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нять противогаз, вымыть лицо, прополоскать рот и горло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мыть водой открытые участки тела и лицевую часть противогаз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снять всю одежду и отправить в стирк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 принять ванн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337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alibri"/>
              </a:rPr>
              <a:t>А; Б; В; Г</a:t>
            </a:r>
            <a:endParaRPr b="0" lang="en-US" sz="13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ервая помощь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6" name="Picture 2" descr="https://avatars.mds.yandex.net/get-zen_doc/53963/pub_5ab32893bcf1bcb6689dc57e_5ab32b6f9e29a29d46437756/scale_1200"/>
          <p:cNvPicPr/>
          <p:nvPr/>
        </p:nvPicPr>
        <p:blipFill>
          <a:blip r:embed="rId1"/>
          <a:stretch/>
        </p:blipFill>
        <p:spPr>
          <a:xfrm>
            <a:off x="1476360" y="1557360"/>
            <a:ext cx="64389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Вы обнаружили у пострадавшего из ноги пульсирующими струйками выделяется кровь алого цвета. Какое кровотечение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веноз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капилляр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артериальное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вы наложите жгут при кровотече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иж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Выш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саму ран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какое время можно накладывать жгут при остановке кровотечения летом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 1 час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на 1,5-2 часа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3 часа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80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Как вы окажете помощь пострадавшему при переломе рук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ложите тугую повязку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оможете пострадавшему добраться до больницы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к поврежденной конечности закрепите шину (палку, дощечку), позвоните 03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Сколько вдуваний в минуту вы будете делать пострадавшему при искусственном дыха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-10 вдуваний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2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3-4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 Сколько надавливаний вы будете делать пострадавшему при непрямом массаже сердца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3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60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 Какие средства защиты следует применять от поражения отравляющими веществам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защитный костюм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ротивогаз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марлевую повязк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жданская оборона -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оенных конфликтах или вследствие этих конфликтов, а также при чрезвычайных ситуациях природного и техногенного характера (в ред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едерального закона от 29.06.2015 N 171-Ф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ак правильно оказать помощь при кровотечении из носа: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        сказать пострадавшему, чтобы он стоял,  запрокинув голову назад, и не шевелился;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        усадить пострадавшего, наклонив его туловище перед, положить на спинку носа холод, плотно прижать крылья носа к перегородке на 5—10 минут, смочить  кусочки ваты раствором перекиси водорода и вести их в носовые ходы; 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        усадить пострадавшего, наклонив его туловище вперед, смочить кусочки ваты раствором перекиси водорода и ввести их в носовые ходы, измерить температуру и дать обезболивающе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85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. При химическом ожоге кислотой необходимо прежде всего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        доставить пострадавшего в медицинское учреждение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        дать обезболивающе средство и промыть место ожога слабым раствором питьевой соды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        удалить с человека одежду, пропитанную кислотой, и промыть кожу проточной водой;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99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5280" y="33300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10. Укажите правильную последовательность при оказании ПМП при ожогах: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) дать таблет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Б) при горении одежды, накрыть пострадавшего плотной тканью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) положить холод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) дать выпить теплый чай, слабый кофе или слегка подсоленную вод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) наложить стерильную повяз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Е) транспортировать в лечебное заведение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Б; А; Д; Г; В; Е.</a:t>
            </a:r>
            <a:endParaRPr b="0" lang="en-US" sz="8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640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Из приведенных задач выберите те, которые являются задачами в области ГО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эвакуация населения, материальных и культурных ценносте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эвакуация раненных с места военных действи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борьба с пожарами, возникающими при ведении военных действ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беззараживание населения, техники, зданий и территор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строительство фортификационных сооружений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восстановление функционирования необходимых коммунальных служб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проведение мероприятий по организации медицинского обслуживания населени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проведение мероприятий по светомаскировк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alibri"/>
              </a:rPr>
              <a:t>А; В; Г; Е; З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849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Ведение ГО на территории РФ или отдельных ее местностях начинае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 началом объявления о мобилизации взрослого населени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 момента объявления или ведения Президентом Российской Федерации чрезвычайного положения на территории Российской Федерации или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 момента объявления состояния войны, фактического начала военных действий или ведения Президентом Российской Федерации военного положения на территории Российской Федерации и в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115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Руководителем гражданской обороны образовательного учреждения является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специально уполномоченный представитель органов местного самоуправл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руководитель общеобразовательного учрежд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один из заместителей руководителя общеобразовательного учреждения, прошедший специальную подготовку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22:10Z</dcterms:created>
  <dc:creator>РиЮ</dc:creator>
  <dc:description/>
  <dc:language>en-US</dc:language>
  <cp:lastModifiedBy>Андрей</cp:lastModifiedBy>
  <dcterms:modified xsi:type="dcterms:W3CDTF">2020-03-15T14:13:14Z</dcterms:modified>
  <cp:revision>36</cp:revision>
  <dc:subject/>
  <dc:title>Слайд 1</dc:title>
</cp:coreProperties>
</file>