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2BE-007B-4162-993D-F3B5D83F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ACE-9815-4651-84F9-30AA369B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FDF-7721-453B-B73C-EFA95AE8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D7C-415C-4615-AB16-4049E5EB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CD7D-8511-4377-B32C-E8D556FD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7ADE-B25D-479E-B143-3C89225A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C53A-EAB7-4734-97B5-6754345C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BA0A-64EC-4100-A678-00E4D733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3D5D-F061-4F3A-8BF1-CBE7B595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290F-0577-4CFD-938E-FBA901EC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175D-9DDC-4F11-A54A-8C341791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4DA-1D12-4054-9AA8-C4EBDCF2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5EB0-EA3E-448E-AF0A-A08E6387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F75D-9294-4E58-830D-2B99E291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3D23-75D4-42FA-91DF-EBBA3469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BD5D-95AD-4246-A7E7-1BAB4CC5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BA40-249C-4BE6-8518-9E10A105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0C8-E50E-42E4-A505-7FBAEE16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25B-068B-4F60-ABB4-8FB06F95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57D-C0F7-4C85-8840-3EF3F283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833-4CC7-4A85-B0F3-92222F91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E87-DAA0-4EE2-AE0C-49DDB158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85F-C1A7-4AC8-ACF7-0C064F3D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724-B9B3-454D-A1D2-CB341056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6F52-AC42-4376-B45E-16D07775962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C831-58C8-410D-9EA1-DFEAA7DE03C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8040"/>
            <a:ext cx="633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Гражданская оборона</a:t>
            </a:r>
            <a:endParaRPr b="0" lang="en-US" sz="6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3" name="Picture 5" descr="m_ch_s"/>
          <p:cNvPicPr/>
          <p:nvPr/>
        </p:nvPicPr>
        <p:blipFill>
          <a:blip r:embed="rId1"/>
          <a:stretch/>
        </p:blipFill>
        <p:spPr>
          <a:xfrm>
            <a:off x="7236000" y="208080"/>
            <a:ext cx="119988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s://birulevo-zapadnoe.mos.ru/upload/medialibrary/5d0/grazhdanskaya-oborona.iz-istorii.jpg"/>
          <p:cNvPicPr/>
          <p:nvPr/>
        </p:nvPicPr>
        <p:blipFill>
          <a:blip r:embed="rId2"/>
          <a:stretch/>
        </p:blipFill>
        <p:spPr>
          <a:xfrm>
            <a:off x="826920" y="2205000"/>
            <a:ext cx="7481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1052640"/>
            <a:ext cx="84358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означает звучание сирен, предупреждающих о ЧС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«Воздушная тревога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«Внимание всем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чало эвакуаци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. Куда необходимо следовать при объявлении эвакуации?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в ЖЭК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в школу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на сборно-эвакуационный пункт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Поражающими факторами ядерного взрыва являю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избыточное давление в эпицентре ядерного взрыва; облако, зараженное отравляющими веществами и движущееся по направлению ветра; изменение состава атмосферного воздуха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ударная волна, световое излучение, проникающая радиация, радиоактивное заражение и электромагнитный импульс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резкое понижение температуры окружающей среды, понижение концентрации кислорода в воздухе, самовозгорание веществ и материалов в зоне взрыва, резкое увеличение силы тока в электроприборах и электрооборудовани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115560"/>
            <a:ext cx="88930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 действиям населения при оповещении об аварии на радиационно-опасном объекте относя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ключите радиоприемник, телевизор, прослушайте сообще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ясь на улице, немедленно защитите органы дыхания и поспешите в укрыт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Закройте окна и двери, загерметизируйте помещен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) Проведите йодную профилактику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) Защитите продукты питания; сделайте запас воды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) Ждите информацию органов ГОЧ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) Все вышеперечисленны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4920" y="25992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9. При движении по зараженной радиоактивными веществами местности необходимо: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находиться в средствах индивидуальной защиты органов дыхания и кожи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без надобности не садиться и не прикасаться к местным предметам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избегать движения по высокой траве и кустарнику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не принимать пищу, не пить, не курить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) не поднимать пыль и не ставить вещи на землю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) Всё вышеперечисленное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353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Гражданская оборона – это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истема мероприятий по прогнозированию, предотвращению и ликвидации чрезвычайных ситуаций в военное врем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истема обеспечения постоянной готовности органов государственного управления для быстрых и эффективных действий по организации первоочередного жизнеобеспечения населения при ведении военных действий на территории Российской Федерации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едении военных действий или вследствие этих действи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. Частичная санитарная обработка включает в себя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нять верхнюю одежду, встать спиной к ветру и тщательно ее выби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бмыть водой и обтереть ветошью обув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нять противогаз, вымыть лицо, прополоскать рот и горло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мыть водой открытые участки тела и лицевую часть противогаз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снять всю одежду и отправить в стирк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 принять ванн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1337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Calibri"/>
              </a:rPr>
              <a:t>А; Б; В; Г</a:t>
            </a:r>
            <a:endParaRPr b="0" lang="en-US" sz="13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Первая помощь</a:t>
            </a:r>
            <a:endParaRPr b="0" lang="en-US" sz="7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6" name="Picture 2" descr="https://avatars.mds.yandex.net/get-zen_doc/53963/pub_5ab32893bcf1bcb6689dc57e_5ab32b6f9e29a29d46437756/scale_1200"/>
          <p:cNvPicPr/>
          <p:nvPr/>
        </p:nvPicPr>
        <p:blipFill>
          <a:blip r:embed="rId1"/>
          <a:stretch/>
        </p:blipFill>
        <p:spPr>
          <a:xfrm>
            <a:off x="1476360" y="1557360"/>
            <a:ext cx="64389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Вы обнаружили у пострадавшего из ноги пульсирующими струйками выделяется кровь алого цвета. Какое кровотечение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веноз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капилляр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артериальное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вы наложите жгут при кровотече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иж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Выш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саму ран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какое время можно накладывать жгут при остановке кровотечения летом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 1 час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на 1,5-2 часа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3 часа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80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Как вы окажете помощь пострадавшему при переломе рук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ложите тугую повязку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оможете пострадавшему добраться до больницы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к поврежденной конечности закрепите шину (палку, дощечку), позвоните 03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Сколько вдуваний в минуту вы будете делать пострадавшему при искусственном дыха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-10 вдуваний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2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3-4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 Сколько надавливаний вы будете делать пострадавшему при непрямом массаже сердца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3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60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 Какие средства защиты следует применять от поражения отравляющими веществам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защитный костюм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ротивогаз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марлевую повязк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жданская оборона -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оенных конфликтах или вследствие этих конфликтов, а также при чрезвычайных ситуациях природного и техногенного характера (в ред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едерального закона от 29.06.2015 N 171-Ф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ак правильно оказать помощь при кровотечении из носа: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        сказать пострадавшему, чтобы он стоял,  запрокинув голову назад, и не шевелился;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        усадить пострадавшего, наклонив его туловище перед, положить на спинку носа холод, плотно прижать крылья носа к перегородке на 5—10 минут, смочить  кусочки ваты раствором перекиси водорода и вести их в носовые ходы; 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        усадить пострадавшего, наклонив его туловище вперед, смочить кусочки ваты раствором перекиси водорода и ввести их в носовые ходы, измерить температуру и дать обезболивающе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085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. При химическом ожоге кислотой необходимо прежде всего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        доставить пострадавшего в медицинское учреждение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        дать обезболивающе средство и промыть место ожога слабым раствором питьевой соды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        удалить с человека одежду, пропитанную кислотой, и промыть кожу проточной водой;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99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95280" y="333000"/>
            <a:ext cx="82915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10. Укажите правильную последовательность при оказании ПМП при ожогах: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) дать таблет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Б) при горении одежды, накрыть пострадавшего плотной тканью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) положить холод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) дать выпить теплый чай, слабый кофе или слегка подсоленную вод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) наложить стерильную повяз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Е) транспортировать в лечебное заведение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Б; А; Д; Г; В; Е.</a:t>
            </a:r>
            <a:endParaRPr b="0" lang="en-US" sz="8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640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Из приведенных задач выберите те, которые являются задачами в области ГО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эвакуация населения, материальных и культурных ценносте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эвакуация раненных с места военных действи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борьба с пожарами, возникающими при ведении военных действ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обеззараживание населения, техники, зданий и территор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строительство фортификационных сооружений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восстановление функционирования необходимых коммунальных служб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проведение мероприятий по организации медицинского обслуживания населени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проведение мероприятий по светомаскировк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alibri"/>
              </a:rPr>
              <a:t>А; В; Г; Е; З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849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Ведение ГО на территории РФ или отдельных ее местностях начинае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 началом объявления о мобилизации взрослого населени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 момента объявления или ведения Президентом Российской Федерации чрезвычайного положения на территории Российской Федерации или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 момента объявления состояния войны, фактического начала военных действий или ведения Президентом Российской Федерации военного положения на территории Российской Федерации и в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115560"/>
            <a:ext cx="82296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Руководителем гражданской обороны образовательного учреждения является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специально уполномоченный представитель органов местного самоуправл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руководитель общеобразовательного учрежд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один из заместителей руководителя общеобразовательного учреждения, прошедший специальную подготовку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22:10Z</dcterms:created>
  <dc:creator>РиЮ</dc:creator>
  <dc:description/>
  <dc:language>en-US</dc:language>
  <cp:lastModifiedBy>Андрей</cp:lastModifiedBy>
  <dcterms:modified xsi:type="dcterms:W3CDTF">2020-03-15T14:13:14Z</dcterms:modified>
  <cp:revision>36</cp:revision>
  <dc:subject/>
  <dc:title>Слайд 1</dc:title>
</cp:coreProperties>
</file>